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792-2D44-4947-A2C8-19D7DFE9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37D7-BBA4-4469-9601-AB776EC9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741-FC26-4F70-9A62-BD172526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EF0-8D6C-4E49-9F2D-92393CC7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8A2-D8E4-43C4-AADB-A4E7530E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ED8-D31E-43F8-B82D-8D84040C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771-6A18-44E0-BB72-E8D9978E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45B2-F55E-4E4C-AF95-4AC9AF8B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159-841F-4F99-8150-2A3889A7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C89-7877-40D6-A73B-55FE2549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A70-FA39-42DA-9DDA-1B4D090B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572-9467-4E5F-B28B-6A6AE899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899A-3C0E-4D05-AF3D-F6F1CE6F2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t Articles 200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spital Medi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Gabriela Sullivan M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CRM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(Borrowed liberally from talk by Brad Sharpe, MD, UCSF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e Control in afib with RV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u C, et al. Crit care Med July 2009; 37(7):21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-label RCT 150 patients who presented to ER with symptomatic uncomplicated afi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d 3 groups: IV dilt, IV dig, IV am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comes were rate &lt;90 and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 achieved earlier rate control, more rate control, and shorter LOS. Also better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68 year old nursing home resident with S. aureus osteo.  He has new swelling in his right arm. He has a diffusely swollen R arm but no redness or joint swelling.  He has a PICC in that 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risk of thromboembolism in patients with PIC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happ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TE with PIC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bo et al, J Hosp Med 2009; 4:417-4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hart review of adult general medicine inpatients in a single university-affiliated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54 PICCS; 777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tomatic patients only screened, mean age 61, 60%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5% developed UE DV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% developed 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: 5.0 VTE/1000 PICC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4.5% had a VTE complic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/o VTE (OR 10.8) and non-central PICC location (OR 2.6) associated with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 UE VTE like LE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time of discharge the nurse asks if the patient should get a pneumovax before he goes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re benefit in nursing home pati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neumovax in nursing h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uyama et al. BMJ 2010; 340:c1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blind RCT of 1006 Japanese nursing home residents comparing 23-valent pneumovax vs. placebo showed 4.5% decreased risk of pneumoccocal pneumonia (NNT 2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sk of death from pneumococcal disease declined 3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man with COPD, HTN and chronic back pain is admitted for increasing cough, chest pain, and dyspnea. He describes his pain as “ripping” to his ba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hink this is COPD but you are wondering if this could be PE or diss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ests can you order to rule out PE and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I of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 of the 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di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scan of the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7 year old woman with a h/o HTN presents with syncop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ests should you 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dimer in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zuki T et al, Circulation 2009; 119:27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 is can D-dimer aid in evaluation of disse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pective multi-center 222 suspected of dissection, all D-dimer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&lt;24 hours of symp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7 patients with dis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characteristic for D-dimer&lt;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bove true rules out dissection 95% of the time, but poor specificity, 6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-dimer&gt;1600 it showed a positive likelihood ratio of 12.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D-dimer is slightly elevated so he gets a CT of the chest which is negative except for a new 1 cm pulmonary nodule in the R l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alence of clinically relevant incidental findings on CT for 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 &lt;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than 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l, et al. Arch Intern Med 2009; 169(2):19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ross-sectional, 589 CTA’s ordered by ED, reviewed for final read for PE and non-PE fin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397160"/>
          <a:ext cx="6858000" cy="4327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ive Diagno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=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 no 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_x0013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al findings common for CTA. Many require f/u; new nodules/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creatinine went from .9-1.3 over a 36 hour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need to worry about this increase in creatin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and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rantes et al. Mayo Clin Proc, 2009; 84(5); 410-4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and case-control study of 735 adult patients with AKI (increase in serum creatinine &gt;.3 within 48 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89 controls at a single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with AKI w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X more likely to die in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have LOS&gt;7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require critical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diagnostic test is the highest yield and most cost-eff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 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e for 24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oponin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lt-table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eet the patient’s wife and before she shakes your hand she asks you if you have washed your hand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ve you washed your han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e as you hit the alcohol dispenser on the w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 before and after each patient 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course as you wipe your lunch on your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roving hand hygi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int et al. Qual Saf Health Care 2009; 18: 4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a mulitmodal intervention improve healthcare worker hand hygie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 hygiene intervention 5 hosp units; mulitmodal intervention over 2 weeks; before/after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rs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identified, engaged, motivated by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logy unit MDs; pre: 6.4%, post 3.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key, rates still p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woman with DM and CKD found altered in her a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he is in the ER her temp is 38.5C and she is somnolent with nuccal rig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uspect bacterial meningitis and perform LP, start empiric antibiotics and admit her to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289320" y="165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uld you also start steroi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 the g stain; if GPC 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 in this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in children but not i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roids in acute bacterial mening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ri, et al. Mayo Clinic Proc 2009; 84(5) 403-4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effect of adjuvant steroids on short-term mortality and neurologic sequelae in acute bacterial meningit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atic review/meta-analysis, placebo-controlled, RCTs. 4 trials; 1261 adult and adolescent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led RR of death (95% C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HIV preva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ed countries: NNT to prevent 1 death 12.5. NNT to prevent 1 death from S pneumo is 4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NT to prevent 1 neuro sequelae in developed countries is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s used dexamethasone .6 mg/kg/day 4 X a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du ML, et al, Arch Intern Med July 2009: 169:12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study 2100 pts. All &gt;65 yo.  Studies ordered were noted and if tests made diagnosis or changed manag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3% had diagnosis for syn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mmon causes vasovagal, orth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tient worsens and a code blue is called. The son and daughter are outside the room and they would like to come into the room during the resusci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you allow t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you allow family to be present during resuscit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t is important to show them that everything is being done and so they can be there for h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too traumatic for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my hospital has a policy allowing families to be 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having the family might impair the performance of the code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ily presence at c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nandez R, et al Crit Care Med. June 2009; 37; 19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T 2nd and 3rd year EM residents, simulated codes, worker and family member present: 3 groups, no family witness, a nonobstuctive “quiet” witness, a witness with an “overt grief reac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1397160"/>
          <a:ext cx="6858000" cy="47242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ical 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wit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t gri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co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sh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sho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dea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st Com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spective study of 509 out-of-hospital cardiac arrests ( VF or VT) examined % time given chest compressions and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% time patients were given chest compressions increased the odds of surviving to hospital discharge (11% increase for each 10% increase in time sp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use dilt instead of dig or amio for rate control in uncomplicated af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give pneumovax to eligible nursing home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 appreciate how common important incidental findings are in CT scans for 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) prioritize chest compressions in resusc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limiting the eval of syncope in patients &gt;65 to history, exam, orthostatics, tele, EKG, troponin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the risk of VTE with PICC is 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using D-Dimer to R/O aortic dis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small increases in creatinine in the hospital may be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how hard it is to get providers to wash their h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the consequences of allowing family members to be present at resusci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235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diagnosi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management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enzy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2967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t per + test -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m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ponin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 the best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, tele, and troponin high-yield, low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atient has a normal EKG and troponin and is admitted to tele for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develops rapid atrial fib the next day, to 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rate control in absence of CHF and normal renal func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am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me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v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9:36:41Z</dcterms:created>
  <dc:creator>hcmartinez</dc:creator>
  <dc:description/>
  <dc:language>en-US</dc:language>
  <cp:lastModifiedBy>hcmartinez</cp:lastModifiedBy>
  <dcterms:modified xsi:type="dcterms:W3CDTF">2010-06-30T16:45:10Z</dcterms:modified>
  <cp:revision>17</cp:revision>
  <dc:subject/>
  <dc:title>Significant Articles 2009 Hospital Medicine</dc:title>
</cp:coreProperties>
</file>